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591457"/>
        <c:axId val="61907575"/>
      </c:barChart>
      <c:catAx>
        <c:axId val="925914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907575"/>
        <c:crosses val="autoZero"/>
        <c:auto val="1"/>
        <c:lblAlgn val="ctr"/>
        <c:lblOffset val="100"/>
        <c:noMultiLvlLbl val="0"/>
      </c:catAx>
      <c:valAx>
        <c:axId val="619075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5914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0DAE-1420-4E45-810D-03C9E52CE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7551-55C7-4D2E-85AA-47A545B5B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BABB-42EC-451B-9C9B-69043E1B3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B3C6-A163-4E9F-A123-CDA0D708D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68AC-43F1-49C4-AA9D-117FFF72C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505B-9E91-497B-834D-4979B2F80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63E0-3F95-4E8D-AB11-4420685B3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18C1-E5F2-4373-AE1C-2024F8F67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06AA-8972-4744-B46A-A220C22F9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A547-4B03-4611-845A-CB7D96503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8F34-CB9C-4FBA-ABCC-FEFCB945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D911-912F-483C-8D8B-DD1031CAF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AC2830-4B17-4AD3-B540-B80040432C8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