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5332"/>
        <c:axId val="89709441"/>
      </c:barChart>
      <c:catAx>
        <c:axId val="1275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09441"/>
        <c:crosses val="autoZero"/>
        <c:auto val="1"/>
        <c:lblAlgn val="ctr"/>
        <c:lblOffset val="100"/>
        <c:noMultiLvlLbl val="0"/>
      </c:catAx>
      <c:valAx>
        <c:axId val="89709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5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686-7DC6-41A6-A104-1CBCD73C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592-BB53-4ADF-8A63-6724A89C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C6A-5BAC-45AC-B5B7-4829A001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F33-F073-4D04-9D1A-7F6EEA43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10D-5135-49EA-AE8F-ECE2617B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C8B-050E-41F2-BA36-6F155F66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B62-54EC-4D85-A128-200F3A52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C46-2EAE-4010-92E9-14FBD66F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9EB-E646-42BD-B4D3-A4AB731F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CF6-683B-4D88-AE5D-98000566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911-F7B3-43C7-81B2-E0ECBB5A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8D98-1BD6-4A4A-A12C-B147E99B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C685B-C0A4-4222-B901-FE52C123E5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