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32265"/>
        <c:axId val="32948625"/>
      </c:barChart>
      <c:catAx>
        <c:axId val="67932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48625"/>
        <c:crosses val="autoZero"/>
        <c:auto val="1"/>
        <c:lblAlgn val="ctr"/>
        <c:lblOffset val="100"/>
        <c:noMultiLvlLbl val="0"/>
      </c:catAx>
      <c:valAx>
        <c:axId val="32948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32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F0A-0813-47F9-8644-000F85E2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64E-D2B5-4897-A35A-BC943251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632-A2F4-409C-AE6D-4502EBFB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008-5B80-41DC-A1C7-72CEB201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3A4-4145-4133-9B67-6D8ECB1F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946-7C8C-4F8D-A823-665217AA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C82-CF08-4150-8CAB-9C42ED1F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64A-F46A-4965-BA7F-85CD5ADD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6A0-A227-42CF-9DD9-FEAC3685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8FA-CA97-4E9D-8958-648B7C81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A31-2220-4011-BF9D-794554A1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F26-350C-4FBC-B1E2-B6EEABB5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76A5A-9782-4E98-925D-2C156D54E4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