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41355"/>
        <c:axId val="79401866"/>
      </c:barChart>
      <c:catAx>
        <c:axId val="93841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1866"/>
        <c:crosses val="autoZero"/>
        <c:auto val="1"/>
        <c:lblAlgn val="ctr"/>
        <c:lblOffset val="100"/>
        <c:noMultiLvlLbl val="0"/>
      </c:catAx>
      <c:valAx>
        <c:axId val="79401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1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14E-4C82-4691-9407-AD03D0C1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D87-E7E5-4205-AA1E-4A97518D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0DB-DD87-442A-A6A4-32CECCDF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CDA-6854-4CE1-889F-42BA3B29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FF9-4D50-48DA-BAA9-6B45AE5C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FE9-4DF0-49DC-82F8-3946B2BE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2C1-142E-4FAD-93D3-B76990EE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55E7-B46B-4918-8B80-6ED79DC7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F62-3B1B-4625-8B86-FD6251ED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DF0-A618-4F95-BFC6-6898140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624-4030-4CB6-A45F-E3D9E3C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AC2-2884-496E-B9F5-C394480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F848F-9CA6-4CA5-8080-9851025004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