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94322"/>
        <c:axId val="99942618"/>
      </c:barChart>
      <c:catAx>
        <c:axId val="83494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42618"/>
        <c:crosses val="autoZero"/>
        <c:auto val="1"/>
        <c:lblAlgn val="ctr"/>
        <c:lblOffset val="100"/>
        <c:noMultiLvlLbl val="0"/>
      </c:catAx>
      <c:valAx>
        <c:axId val="99942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94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908-704B-47DB-85E8-80CD48B2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CB1-ABCD-4D89-875E-40A4FC40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3BF-4558-4836-9A39-0354EBF8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7DC-DC78-4E92-A2FC-EB9BDFC7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136-2891-44F0-8B32-67774F08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7C7-1016-46DB-82B2-6317C519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68D-ED5E-4136-8E0E-A16324D4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A00-AB35-4A2A-B955-306D1F3D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E4A-6D51-4491-B53A-D99F9CE7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126-9EA2-444F-8696-BDAC3FDB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305-87F7-468B-A191-47B2DA1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CB7-A745-45BE-A3D2-BE4D3319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2CEAA-0EA1-49A1-BAFC-6CBB405725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