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54356"/>
        <c:axId val="51293231"/>
      </c:barChart>
      <c:catAx>
        <c:axId val="37954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3231"/>
        <c:crosses val="autoZero"/>
        <c:auto val="1"/>
        <c:lblAlgn val="ctr"/>
        <c:lblOffset val="100"/>
        <c:noMultiLvlLbl val="0"/>
      </c:catAx>
      <c:valAx>
        <c:axId val="51293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4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92C-40F0-4F88-9F1D-0E9C632F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B8F-A16C-4220-BD72-F1DCFCE4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44D-771D-4636-8FE8-17D89B64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FAB-951E-4BB1-ABE1-C0D0A253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D8E-DC18-42BE-91DF-D5EBE355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4E0-395F-4B57-B70D-2D4101E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E59-3016-49B6-B779-8C574A9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527-5BDC-4584-932B-69773704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AC2-A808-41ED-884A-AACFC19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0DF-2F61-40B5-BDE1-B20B76B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105-E145-43F0-AC7E-8FE5A8D3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24B-9798-4912-A77E-B93D0E6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DD1B2-02B0-4987-951F-D4F01E4CD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