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5762"/>
        <c:axId val="93168472"/>
      </c:barChart>
      <c:catAx>
        <c:axId val="3305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68472"/>
        <c:crosses val="autoZero"/>
        <c:auto val="1"/>
        <c:lblAlgn val="ctr"/>
        <c:lblOffset val="100"/>
        <c:noMultiLvlLbl val="0"/>
      </c:catAx>
      <c:valAx>
        <c:axId val="93168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5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AA1-0330-44EB-8A77-817E69F7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242-F611-4277-B637-4239230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5A1-F250-424A-8FA0-E503D55C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31A-CA6D-490D-BF75-A61A45C1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207-DF01-49CF-A9E5-575A134E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B08-7217-4DAA-B670-A573158B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82E-4099-4E52-B573-FC71F7A9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40B-5496-4D5E-97C0-0F9E91D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2C2-AE64-45D7-9B7E-72821E56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642-C873-4A6D-BDFC-EF1755A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D4E-E80D-44BC-A7FF-2E1BFCBD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AC6-FD9C-449F-A7D9-AB7E9204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3BFD0-D954-4DE0-8CE8-19053A185E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