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41936"/>
        <c:axId val="61349139"/>
      </c:barChart>
      <c:catAx>
        <c:axId val="26341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49139"/>
        <c:crosses val="autoZero"/>
        <c:auto val="1"/>
        <c:lblAlgn val="ctr"/>
        <c:lblOffset val="100"/>
        <c:noMultiLvlLbl val="0"/>
      </c:catAx>
      <c:valAx>
        <c:axId val="61349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41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C2F-5DE6-4AED-9933-B602E3AD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A53-2491-4723-AFE5-53FDAF0D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87F-991C-4B44-A34B-97748212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886-D39D-4AD7-BF79-55FAB591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345-1C54-4281-B29A-48026112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785-203F-4759-9BCE-E030B5E4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9D5-5029-4BCD-AA9F-E8AB3673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49E-8024-4C09-AF00-0D4D1838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F32-635F-4608-8447-BDB7DB65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B3E-EA32-480D-842B-71BDBE42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A83-6DCC-4C76-95E3-3D0D4ABC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E92-DD28-44DB-AED9-288174F1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97339-B36B-46FD-BC92-0A25E7F8D8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