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82817"/>
        <c:axId val="9363884"/>
      </c:barChart>
      <c:catAx>
        <c:axId val="17482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884"/>
        <c:crosses val="autoZero"/>
        <c:auto val="1"/>
        <c:lblAlgn val="ctr"/>
        <c:lblOffset val="100"/>
        <c:noMultiLvlLbl val="0"/>
      </c:catAx>
      <c:valAx>
        <c:axId val="9363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2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780-37FA-41A8-BFB7-5EB4581B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C4A-11B1-4B83-9718-82B8CB22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011-5B60-451C-AE93-FB79E9AA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28C-87B2-48BC-8FB7-1CD15B2F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046-E96A-4521-A783-3BE2821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5B2-CC6D-4607-AFF4-058ABE4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E61-5AAC-4837-9851-9E3F76F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7C3-F85A-4B12-B1EF-DB7F0B3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5DA-8E96-4DDA-9023-1BDE58F7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CE4-C0AE-4A28-9C62-5F977C8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19D-975B-47F0-98D0-3EFD299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487-A214-46C6-9992-4FD9F94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33830-940C-454C-8875-51D8805B9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