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01274"/>
        <c:axId val="55818432"/>
      </c:barChart>
      <c:catAx>
        <c:axId val="93301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18432"/>
        <c:crosses val="autoZero"/>
        <c:auto val="1"/>
        <c:lblAlgn val="ctr"/>
        <c:lblOffset val="100"/>
        <c:noMultiLvlLbl val="0"/>
      </c:catAx>
      <c:valAx>
        <c:axId val="55818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01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C22-DC4A-4499-8F6A-8986318F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CB7-3D6B-4535-956E-5E981274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ADC-9CD3-4210-B1AF-F2D62082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5BA-728B-4EAB-B463-425D3B49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886-4675-4125-9C67-C01D2D6B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DC4-377C-41A5-AF63-A6F127BA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2A0-4DDD-4148-B0DC-E0295F39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2E8-94A4-436E-B726-30738B2E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C65-7003-469B-A994-792E7191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18F-E49D-4B7A-A3C7-81A3CADD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9EB-578A-443A-8692-168B41C2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547-8ED3-431E-AB71-F439A8CD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2DFD3-7DD8-4D11-ACBC-4DF5EAB2B8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