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93427"/>
        <c:axId val="46974988"/>
      </c:barChart>
      <c:catAx>
        <c:axId val="2529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4988"/>
        <c:crosses val="autoZero"/>
        <c:auto val="1"/>
        <c:lblAlgn val="ctr"/>
        <c:lblOffset val="100"/>
        <c:noMultiLvlLbl val="0"/>
      </c:catAx>
      <c:valAx>
        <c:axId val="46974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9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3F9-813B-4481-85A4-DCDCB3FE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7F2-8AEF-4F5D-9212-9477FC2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29A-3F4A-45C3-8615-F6BD93A7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FFF-C3F8-4E85-9E45-9609593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33E-DFE3-49BD-8BF1-7DA17547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BA6-C4B9-488A-91D8-8C74E99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263-1BCC-49C7-9430-2A328374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177-6F6C-4032-A5E6-2A9A7BF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067-B479-4060-AD8E-8FC9DC1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2E3-3B72-4801-9A9F-D121002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FAE-455C-411A-8F28-BF6FF39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192-7147-402A-A169-C5CF5A7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233D-CEC6-415F-B343-6D578BB1A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