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06400" cy="28575"/>
  <p:notesSz cx="417513" cy="28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160" y="-25560"/>
            <a:ext cx="365760" cy="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160" y="6480"/>
            <a:ext cx="365760" cy="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0160" y="15120"/>
            <a:ext cx="365760" cy="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0160" y="-25560"/>
            <a:ext cx="365760" cy="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0160" y="6480"/>
            <a:ext cx="178200" cy="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07720" y="6480"/>
            <a:ext cx="178200" cy="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0160" y="15120"/>
            <a:ext cx="178200" cy="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207720" y="15120"/>
            <a:ext cx="178200" cy="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160" y="-25560"/>
            <a:ext cx="365760" cy="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0160" y="6480"/>
            <a:ext cx="117360" cy="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3640" y="6480"/>
            <a:ext cx="117360" cy="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67480" y="6480"/>
            <a:ext cx="117360" cy="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20160" y="15120"/>
            <a:ext cx="117360" cy="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143640" y="15120"/>
            <a:ext cx="117360" cy="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267480" y="15120"/>
            <a:ext cx="117360" cy="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0160" y="-25560"/>
            <a:ext cx="365760" cy="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20160" y="-14040"/>
            <a:ext cx="365760" cy="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0160" y="-25560"/>
            <a:ext cx="365760" cy="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20160" y="6480"/>
            <a:ext cx="365760" cy="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160" y="-25560"/>
            <a:ext cx="365760" cy="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0160" y="6480"/>
            <a:ext cx="178200" cy="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207720" y="6480"/>
            <a:ext cx="178200" cy="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0160" y="-25560"/>
            <a:ext cx="365760" cy="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20160" y="-16920"/>
            <a:ext cx="365760" cy="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160" y="-25560"/>
            <a:ext cx="365760" cy="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0160" y="6480"/>
            <a:ext cx="178200" cy="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207720" y="6480"/>
            <a:ext cx="178200" cy="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20160" y="15120"/>
            <a:ext cx="178200" cy="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160" y="-25560"/>
            <a:ext cx="365760" cy="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0160" y="6480"/>
            <a:ext cx="178200" cy="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07720" y="6480"/>
            <a:ext cx="178200" cy="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07720" y="15120"/>
            <a:ext cx="178200" cy="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160" y="-25560"/>
            <a:ext cx="365760" cy="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160" y="6480"/>
            <a:ext cx="178200" cy="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07720" y="6480"/>
            <a:ext cx="178200" cy="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0160" y="15120"/>
            <a:ext cx="365760" cy="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06440" cy="28440"/>
          </a:xfrm>
          <a:custGeom>
            <a:avLst/>
            <a:gdLst>
              <a:gd name="textAreaLeft" fmla="*/ 101520 w 406440"/>
              <a:gd name="textAreaRight" fmla="*/ 304920 w 406440"/>
              <a:gd name="textAreaTop" fmla="*/ 7200 h 28440"/>
              <a:gd name="textAreaBottom" fmla="*/ 27720 h 2844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 hidden="1"/>
          <p:cNvSpPr/>
          <p:nvPr/>
        </p:nvSpPr>
        <p:spPr>
          <a:xfrm>
            <a:off x="934920" y="0"/>
            <a:ext cx="625680" cy="77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65200" rIns="25560" tIns="770040" bIns="-57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am invi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9T12:26:07Z</dcterms:created>
  <dc:creator>Tor Lillqvist</dc:creator>
  <dc:description/>
  <dc:language>en-US</dc:language>
  <cp:lastModifiedBy>Tor Lillqvist</cp:lastModifiedBy>
  <dcterms:modified xsi:type="dcterms:W3CDTF">2007-03-29T12:48:27Z</dcterms:modified>
  <cp:revision>2</cp:revision>
  <dc:subject/>
  <dc:title>Slide 1</dc:title>
</cp:coreProperties>
</file>