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01359"/>
        <c:axId val="36423866"/>
      </c:barChart>
      <c:catAx>
        <c:axId val="410013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23866"/>
        <c:crosses val="autoZero"/>
        <c:auto val="1"/>
        <c:lblAlgn val="ctr"/>
        <c:lblOffset val="100"/>
        <c:noMultiLvlLbl val="0"/>
      </c:catAx>
      <c:valAx>
        <c:axId val="36423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013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E3F-C8EF-4AA4-A6DE-55F3FA5B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F4B-7C7A-4CBB-B086-54E019DC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B16-9E47-43B8-BA16-8878C411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73C-844F-42BB-AA49-334F10F2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6104-3E58-4CE7-95A2-DCE2D802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751-7A46-48A1-8DF1-733B0F83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72E-0D5D-4FA9-B2C8-2F62BB08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AC3-95A6-44B8-A856-E24BDDFF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925A-A4EA-47F3-8A63-ADD7D5F3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EB7-F7D8-4917-9860-911E82C6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B4A1-C5DC-4BC4-AC19-7F94C088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F00-7E6F-4953-A624-421ACD74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4A047-4045-4BF0-A0A1-6CD92E4BDF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