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19783"/>
        <c:axId val="87576567"/>
      </c:barChart>
      <c:catAx>
        <c:axId val="8719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76567"/>
        <c:crosses val="autoZero"/>
        <c:auto val="1"/>
        <c:lblAlgn val="ctr"/>
        <c:lblOffset val="100"/>
        <c:noMultiLvlLbl val="0"/>
      </c:catAx>
      <c:valAx>
        <c:axId val="87576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9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3238-2A81-4BF6-A01D-76188A73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770-F4F2-49A7-8B52-6D26C9F4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F279-7546-40FF-8475-9908EB47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FDEF-87F3-4750-8AD1-7C469161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7594-B91D-4104-9EDE-5F371B54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86CA-EBCA-41AA-9D23-4445025A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11A-7B38-4FD1-8967-0F0CA25E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A7B0-D24E-41F0-972A-37ACBC78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23DD-B796-47AF-972D-0DC32AF8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50B-CA74-4990-BBAD-77A9E053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2C96-2405-4412-8374-64783F53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FD7F-6764-4B8A-9EE7-A5CA27A1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3C099-AEEC-46AE-AF78-5A250BE4D4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