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14339"/>
        <c:axId val="64781064"/>
      </c:barChart>
      <c:catAx>
        <c:axId val="53143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781064"/>
        <c:crosses val="autoZero"/>
        <c:auto val="1"/>
        <c:lblAlgn val="ctr"/>
        <c:lblOffset val="100"/>
        <c:noMultiLvlLbl val="0"/>
      </c:catAx>
      <c:valAx>
        <c:axId val="647810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143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55D7-2606-40ED-A508-080CB0A72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BC84-6B8E-46B6-BE5B-0B8E70E0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18A0-2E78-4931-A9B4-0CEF94D68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9B1A-CC53-48A2-AB66-5178816A1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75BB-C58A-4DB3-BACA-223A641D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9977-0B5F-4E9D-AD2B-BF258CEB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8654-C195-4144-9498-EF8432F5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8F63-AC58-44EB-9904-49E03D4B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F790-91E6-446E-8492-AABFFA5A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3D32-65F8-4A65-9E98-3F88A169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6793-87C4-4978-933E-1524B654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5EBD-FC17-4824-9AD4-F36C8876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DC99BC-CBE5-4319-AE4C-28D6246989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