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67650"/>
        <c:axId val="16173364"/>
      </c:barChart>
      <c:catAx>
        <c:axId val="11267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73364"/>
        <c:crosses val="autoZero"/>
        <c:auto val="1"/>
        <c:lblAlgn val="ctr"/>
        <c:lblOffset val="100"/>
        <c:noMultiLvlLbl val="0"/>
      </c:catAx>
      <c:valAx>
        <c:axId val="161733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67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81B1-5DB5-42D2-B6C7-F1D5FAA2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075-1BAE-47DE-98BA-26E28136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0D4-92F7-454C-8D3E-9B75F52D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8C6-48D7-40BF-93E7-13078432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F10-78BE-43F6-B9E3-A0789A8C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909C-DA28-4FDA-9D28-3F42BCA6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04C-061F-480A-8E80-36518BE9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02AC-9538-46F3-AFD1-EDDFE0BF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E772-A702-4C81-A242-A5DC469C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80DA-94B3-4B16-ABDF-74663647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9AA-2816-42D1-BC5A-74EB6E1A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2C84-DB36-4BBC-A505-B1F8DED4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C2FE3-3A59-4BCB-B27C-DE3720BF98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