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60508"/>
        <c:axId val="67357072"/>
      </c:barChart>
      <c:catAx>
        <c:axId val="278605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57072"/>
        <c:crosses val="autoZero"/>
        <c:auto val="1"/>
        <c:lblAlgn val="ctr"/>
        <c:lblOffset val="100"/>
        <c:noMultiLvlLbl val="0"/>
      </c:catAx>
      <c:valAx>
        <c:axId val="673570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605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8B6-7DFB-4DA4-AE13-940E9F6A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99DB-D602-4011-9FC1-EC5343E0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685C-4CDF-4A64-8748-AEBE5A94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942-36CF-4C7A-9DAA-6FED56A6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EDD5-CF07-4FA7-B698-C6D7E7E1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512C-66CE-4DC0-A9C7-78DC067F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B09F-BA16-44E0-8A96-543A9C94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9F73-3F7E-4A78-8D9A-917EF455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49E5-2987-44CF-B812-E306AB8D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BF17-AD73-4759-99FB-C0E68D75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9FF9-17C1-4FEA-9442-448F3478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9E30-3C6B-4751-AA71-0D6B73C7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EB7D7-CCD4-4C8E-BA51-352EE651C8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