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2622428"/>
        <c:axId val="71328950"/>
      </c:barChart>
      <c:catAx>
        <c:axId val="3262242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328950"/>
        <c:crosses val="autoZero"/>
        <c:auto val="1"/>
        <c:lblAlgn val="ctr"/>
        <c:lblOffset val="100"/>
        <c:noMultiLvlLbl val="0"/>
      </c:catAx>
      <c:valAx>
        <c:axId val="7132895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262242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77705-4DF7-47EF-B9A4-843571E4D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9E039-30E2-45B2-A5B8-E6F19F526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14425-1642-4B30-892C-A34C79388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85A39-F5A5-485A-B8D9-CA2684048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775D8-B8F8-4367-95DA-95133AB7D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A5A6A-8922-4B2A-AC90-75100AC2E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D8E58-4BDA-46AF-800F-BBD827F77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8C2D7-515D-4D24-AAA3-A70EFA8CF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D210B-0A3B-4E86-AB6B-9F14E20E2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9F97A-C313-4111-BA3E-073EC38DD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11FBB-9530-4FFC-8B65-6374BD2AD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EE859-2DF4-40CF-89AA-3E290D9F8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200400-79CE-43C5-A137-09CB44EA259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