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25911"/>
        <c:axId val="44236128"/>
      </c:barChart>
      <c:catAx>
        <c:axId val="91725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6128"/>
        <c:crosses val="autoZero"/>
        <c:auto val="1"/>
        <c:lblAlgn val="ctr"/>
        <c:lblOffset val="100"/>
        <c:noMultiLvlLbl val="0"/>
      </c:catAx>
      <c:valAx>
        <c:axId val="44236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5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92E-F554-4703-AE57-DF353E0F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13E-A185-4D03-9AC5-6C318BF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140-04B4-4EC0-B704-07B24B63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D2E-2454-466B-8894-F0454FF5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FF-0615-4776-8D99-A707860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5F0-14A4-4989-985E-462E795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FDE-8B39-4AAB-B1C7-4C6FDFB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E73-F8D6-4CA7-933C-24C35B7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D30-7FBA-49E6-93AF-7868CC6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C1B-7CF8-484A-BB8D-C742DD8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CD5-4974-4F37-BEFF-27DDB1F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F47-96D3-4CF5-8EF6-407BC27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51A22-6193-4014-8EAA-3E25181F8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