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56911"/>
        <c:axId val="11420710"/>
      </c:barChart>
      <c:catAx>
        <c:axId val="14656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0710"/>
        <c:crosses val="autoZero"/>
        <c:auto val="1"/>
        <c:lblAlgn val="ctr"/>
        <c:lblOffset val="100"/>
        <c:noMultiLvlLbl val="0"/>
      </c:catAx>
      <c:valAx>
        <c:axId val="11420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56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C16-8B28-4A32-B003-47309663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299-C8AE-48BE-BB16-7B7C1889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1D0-EB41-4848-B5CA-A049659A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05F-8B73-4574-BBEC-4D0A1244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48D-8196-48F6-9C87-7E7A1AF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0E3-2818-412D-9204-CFB576E5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71B-0F78-4CCC-BB81-BCDD4653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372-FACB-4416-B031-B9A4EFF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067-5232-45FC-A0C7-EA6389C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770-223D-4258-86FA-AF6DE2D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410-F45C-4302-88A0-646FDC91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7E1-75AE-4C45-8AD9-40322C7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AA527-4FAB-4F6F-999E-0ED6BE5A8A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