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88939"/>
        <c:axId val="47792632"/>
      </c:barChart>
      <c:catAx>
        <c:axId val="20388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92632"/>
        <c:crosses val="autoZero"/>
        <c:auto val="1"/>
        <c:lblAlgn val="ctr"/>
        <c:lblOffset val="100"/>
        <c:noMultiLvlLbl val="0"/>
      </c:catAx>
      <c:valAx>
        <c:axId val="47792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88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630-2327-440A-9AC1-E84DFD2B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864-AA16-4725-9519-8E96645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0146-235E-4DA7-9E0E-A8F232C2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9FE-D48E-43B2-8F0D-D3998518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807-653D-4B16-9BAC-1EC80B4D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AA-9899-406A-B580-4CF80F59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9C04-CF2E-4E90-BA9D-C9285680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B6D7-B1B7-4310-8666-3200FF4D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A231-CC24-44DD-B978-DFF6FE94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604-C459-4388-AB7C-35234B49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4243-F594-4F81-84CC-7036762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99D-0453-4BDE-A7FB-C7B58A0E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81695-CD8C-4FE7-A115-5464001296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