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80480"/>
        <c:axId val="55608527"/>
      </c:barChart>
      <c:catAx>
        <c:axId val="51880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08527"/>
        <c:crosses val="autoZero"/>
        <c:auto val="1"/>
        <c:lblAlgn val="ctr"/>
        <c:lblOffset val="100"/>
        <c:noMultiLvlLbl val="0"/>
      </c:catAx>
      <c:valAx>
        <c:axId val="55608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80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250-2A06-4EDE-B7FC-4585AC93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548-47B1-4C2D-861D-FA1EBF53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B84-5EEB-45D0-B62A-2F89EFF2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39B-F153-4B82-8D94-0F1F3728F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1E6-30BA-466F-A188-944854D6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05A-D3F8-4492-BF04-C87E9CC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DFE-DA2E-4928-9596-80800320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6DD-BD9F-4C86-A3ED-34F78138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90A-F07F-4C9E-80C6-DFB10704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AF0-4FF1-4F9B-8825-B3E05BE4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68E-41A2-4721-86D4-8CFEA5F6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014-DBF4-4B81-8112-ABF4AE70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D3836-22FE-4559-9EB4-6BDCC2A8A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