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16522"/>
        <c:axId val="394113"/>
      </c:barChart>
      <c:catAx>
        <c:axId val="39316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113"/>
        <c:crosses val="autoZero"/>
        <c:auto val="1"/>
        <c:lblAlgn val="ctr"/>
        <c:lblOffset val="100"/>
        <c:noMultiLvlLbl val="0"/>
      </c:catAx>
      <c:valAx>
        <c:axId val="394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16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5FF-AF5A-4AC4-972F-21729732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5BE-DCD5-4D1B-BD51-202125F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C59-C1BD-4CAB-902D-10EE03BA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8D6-782C-43E2-A24B-AD773772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8C3-92A9-498C-A514-CAACE364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3ED-34DA-4E0C-AE94-6925388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2D1-823F-4649-BAE5-F566A81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593-0A51-4705-97F3-DB9C15A1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B67-8402-4754-B549-1C10CEC7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0C5-24D3-4F6A-A3F2-20A4013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EA7-028F-46B8-961F-97A0A000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C64-03ED-47E0-8C1D-5B886E8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495C9-FACA-4D08-8A94-80CD7609E7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