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086376"/>
        <c:axId val="96510091"/>
      </c:barChart>
      <c:catAx>
        <c:axId val="610863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10091"/>
        <c:crosses val="autoZero"/>
        <c:auto val="1"/>
        <c:lblAlgn val="ctr"/>
        <c:lblOffset val="100"/>
        <c:noMultiLvlLbl val="0"/>
      </c:catAx>
      <c:valAx>
        <c:axId val="96510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863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EA0F-27FE-4D13-BEC1-54EDE5A2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486B-2A14-48B4-A2D9-1EC07BF6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FDC8-9DD3-4442-AECE-9B14E05A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4785-542F-4DE4-B526-469EBE8A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AE3E-55AA-4810-A762-C0E84211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27AF-2544-4406-93FF-C27CC18A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F5A-0C35-4B50-AFBB-5FCDB36E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63FC-915C-454F-BB9B-701BB927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B407-C2E2-43EF-B96D-DCCCEB67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C69E-39CE-44BA-8D9B-5391A66D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265-8D3F-4C03-998B-04BEDA99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E316-1DC5-4ED2-A197-70B25EAB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649FD-F133-47A1-8EA9-23DCF33ACF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