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51270"/>
        <c:axId val="80490682"/>
      </c:barChart>
      <c:catAx>
        <c:axId val="59251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90682"/>
        <c:crosses val="autoZero"/>
        <c:auto val="1"/>
        <c:lblAlgn val="ctr"/>
        <c:lblOffset val="100"/>
        <c:noMultiLvlLbl val="0"/>
      </c:catAx>
      <c:valAx>
        <c:axId val="80490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51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E9E-F539-4C45-8B76-48A07BF2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38B-19F0-42EA-81C9-83FE574B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D47-3293-470D-BA69-60CBDFC4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CAA-AE1B-431B-A811-D95003BD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909-77BA-4396-BEA4-D21B718E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145-5CFE-48C9-807F-21BBBF07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DB9-A3E0-48B3-A01E-54EEE64F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461-D3D0-4763-A88E-ADACE8BA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0C9-D7C9-4895-B2F2-A291A25A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427-8954-4F1B-B6A6-36927DE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B3A-C421-4F54-8F8B-03968577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FB1-DAC2-48F3-A073-40C5DAA7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39EAA-6DDE-419D-9B1E-A8981979A2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