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936"/>
        <c:axId val="48385916"/>
      </c:barChart>
      <c:catAx>
        <c:axId val="433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85916"/>
        <c:crosses val="autoZero"/>
        <c:auto val="1"/>
        <c:lblAlgn val="ctr"/>
        <c:lblOffset val="100"/>
        <c:noMultiLvlLbl val="0"/>
      </c:catAx>
      <c:valAx>
        <c:axId val="48385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DF0-BD48-4EDD-B732-B1FD2217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8E9-8448-41EB-81BC-A869B3FD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202-288A-4430-9870-6B4427A9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083-2C90-465E-9ABF-EA2BF148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257-D868-4A3C-85B4-350EB6AD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85B-90ED-43E8-BD53-1EEE0DFB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BA2-864D-43F7-BB7D-A68E64F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C98-EC9C-457F-800F-66D4BEAD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46E-E397-425C-A4AD-766975F2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F88-3F19-4A4B-8D09-6EB90CF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7CB-028B-43EE-A56B-F59AA9F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2BD-4C5F-41FA-A9C0-A5498B34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105D3-9A15-46F4-9DD9-7E68C1866F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