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50606"/>
        <c:axId val="16523437"/>
      </c:barChart>
      <c:catAx>
        <c:axId val="24350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23437"/>
        <c:crosses val="autoZero"/>
        <c:auto val="1"/>
        <c:lblAlgn val="ctr"/>
        <c:lblOffset val="100"/>
        <c:noMultiLvlLbl val="0"/>
      </c:catAx>
      <c:valAx>
        <c:axId val="16523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50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0C4-554C-4E08-B8EA-EA3DCD98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389-DB2C-47D8-8884-45ECF480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E80-A782-49A5-B179-24519C635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FCA-787F-453B-B5EA-095E029F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D92-2189-4CCB-A9F6-8CE87EA7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FC6-0350-4DDC-91F7-C8A9FF1F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4E4-1892-44C0-B210-C6B4FF7E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CB6-5D1B-4FA7-9E31-1873A374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FC4-5514-478E-B77C-C35AF1B5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A82-FB5C-417F-A2FB-12F9E86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5B9-7519-44B7-9F5A-3BE6ABCB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4CD-A309-4564-A425-D9DA5493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80134-B07F-42AC-B65A-7313E6EA96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