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7585927"/>
        <c:axId val="71374665"/>
      </c:barChart>
      <c:catAx>
        <c:axId val="2758592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374665"/>
        <c:crosses val="autoZero"/>
        <c:auto val="1"/>
        <c:lblAlgn val="ctr"/>
        <c:lblOffset val="100"/>
        <c:noMultiLvlLbl val="0"/>
      </c:catAx>
      <c:valAx>
        <c:axId val="7137466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58592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0646-7DD5-4B42-93D5-C01BE2490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E33A-9D47-4228-B939-4C29683D7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08E8-1712-4391-A8C7-2713F733F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044E-26A8-4FB5-86E8-A6D872A81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D8AB-9184-4E60-A5FB-12AA43E1F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9376-EBB2-4B38-8157-95396BEF9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C2D8-3084-4F4A-BC1C-239A736A4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A663-FEB6-4C4A-A0BF-BCE8BB04B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09BB-CB74-49EF-8417-1FA76139D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B8CA-7583-41C6-8DDC-D2DEE75AE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1F4B-06CD-4F9C-9385-C0761BF2E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A9E6-3931-4DEE-B8E8-AC1A37B99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F30674-78E0-41AD-ACF3-082642771D1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