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89299"/>
        <c:axId val="97164927"/>
      </c:barChart>
      <c:catAx>
        <c:axId val="89789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4927"/>
        <c:crosses val="autoZero"/>
        <c:auto val="1"/>
        <c:lblAlgn val="ctr"/>
        <c:lblOffset val="100"/>
        <c:noMultiLvlLbl val="0"/>
      </c:catAx>
      <c:valAx>
        <c:axId val="97164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9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060-035A-47BD-977A-8756764B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110-6E65-48F3-ACBF-70EFFCBD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A62-0499-4E4B-9269-3B3FA762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B19-56DD-4853-8C9E-5B494E83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880-66C8-457C-A5EF-5877009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794-42DD-4C01-86CC-69631E70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56D-907C-437B-A3C4-B6C82D25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B9B-080B-4BB3-ACF9-0C27EC0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DD0-26F5-4377-8156-F12F713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679-76BC-4AC5-9B9D-B832248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610-CB95-4CD5-A6A8-D228F670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DD2-D786-43E9-99FA-C71EA6CB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93290-C4E8-439B-8EE1-8E1E836F4A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