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84288"/>
        <c:axId val="94857424"/>
      </c:barChart>
      <c:catAx>
        <c:axId val="42184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57424"/>
        <c:crosses val="autoZero"/>
        <c:auto val="1"/>
        <c:lblAlgn val="ctr"/>
        <c:lblOffset val="100"/>
        <c:noMultiLvlLbl val="0"/>
      </c:catAx>
      <c:valAx>
        <c:axId val="94857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84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E82-F761-4AA0-81C4-38E68FC3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FED-496D-44B2-9EA3-47B06144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9DA-D20A-4B55-8A27-3CAE9A6B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D43-162F-4E02-93FD-981B4101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45D-4695-4B6B-A6F5-3A84934D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5E3-6EC8-45D6-A7E0-3E90161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29C-D4A7-4AB3-B4BF-A34076A9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F36-075A-4B9D-AB5A-23E9E186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C30-9ACE-49D8-A5B3-D2202C78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A26-BD6E-476A-A006-A0A58646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E59-5334-4D69-99E0-D68CC30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594-AD56-4652-8B32-97FF00D0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AE883-E30A-400F-9809-882EF4A463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