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053704"/>
        <c:axId val="19521242"/>
      </c:barChart>
      <c:catAx>
        <c:axId val="870537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21242"/>
        <c:crosses val="autoZero"/>
        <c:auto val="1"/>
        <c:lblAlgn val="ctr"/>
        <c:lblOffset val="100"/>
        <c:noMultiLvlLbl val="0"/>
      </c:catAx>
      <c:valAx>
        <c:axId val="195212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537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4A5B-3C5D-4BCF-8076-9C37D51B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CAF1-8F9D-4A94-ABA7-D8B63DDE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281D-8147-4C50-81E8-0A0E8B16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1C03-A727-4285-96C9-E9274EFA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13F2-622C-4697-909B-998508E7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7E8F-7809-4626-900E-6C532392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D4C6-8A81-4949-8936-2B62C95E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5065-25B9-41CE-861F-5000DAC3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ADBA-211B-4549-A561-15E70362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F759-B290-4AB5-857D-16B5CBE7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66EE-1B8D-435F-BE80-822F5C75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9310-0D2F-47CF-B654-31A22209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39503-47CB-447A-A403-555B09A296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