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6337"/>
        <c:axId val="67077245"/>
      </c:barChart>
      <c:catAx>
        <c:axId val="9846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77245"/>
        <c:crosses val="autoZero"/>
        <c:auto val="1"/>
        <c:lblAlgn val="ctr"/>
        <c:lblOffset val="100"/>
        <c:noMultiLvlLbl val="0"/>
      </c:catAx>
      <c:valAx>
        <c:axId val="67077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6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F55-F34F-428F-8F89-9628000E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6C2-CEA1-4E32-A304-14FFCE3A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9F5-C943-4CE0-9508-6634E571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E67-C4AA-4365-A27D-41E15D16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566-C7F7-4972-A6C8-40D5907A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735-CEEF-43F9-976F-73BFCD93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FC1-23F1-461A-B1DF-94F1A2F5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8C0-FA43-43D2-A77D-6C0AFAEB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9B4-1D56-4C8F-8D50-02202E34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6E3-BA90-4641-A388-A9376F4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440-42E8-4348-9F33-B6F68B9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5BA-793D-47A1-A000-C82B1952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0299E-DCB3-47EA-B9E6-3737CD808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