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31531"/>
        <c:axId val="56038313"/>
      </c:barChart>
      <c:catAx>
        <c:axId val="75931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38313"/>
        <c:crosses val="autoZero"/>
        <c:auto val="1"/>
        <c:lblAlgn val="ctr"/>
        <c:lblOffset val="100"/>
        <c:noMultiLvlLbl val="0"/>
      </c:catAx>
      <c:valAx>
        <c:axId val="56038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31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D44-DFD7-4F78-A049-D551D8BF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0CD-8D0A-4669-8346-5D35F94C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5FE-FED7-4878-9147-8DFDBCB7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C06-F549-472D-8D64-F21A8BD3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42B-3547-4778-A251-482631F7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EE6-8190-4FCF-9FED-283A4B60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40E-5BEB-4E24-8D66-06276007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D78-461C-474C-8C31-4A19B242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8AC-EA40-49D2-A581-6E90D999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C79-584B-4C0B-990E-0E695F2E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891-3B7C-4283-991C-00634F6A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A25-1651-4C93-9ED5-DC69919A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B7BF4-BF08-45B2-BAE1-5BDC4A2F15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