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353130"/>
        <c:axId val="32017940"/>
      </c:barChart>
      <c:catAx>
        <c:axId val="873531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17940"/>
        <c:crosses val="autoZero"/>
        <c:auto val="1"/>
        <c:lblAlgn val="ctr"/>
        <c:lblOffset val="100"/>
        <c:noMultiLvlLbl val="0"/>
      </c:catAx>
      <c:valAx>
        <c:axId val="320179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531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DA5D-A83D-4DF4-AB90-D0F81C63D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4B86-7270-4D61-A2CC-4D3FB549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8C1E-8956-4301-89F1-860848E1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7211-5FAA-44D2-96AB-EB54B40EB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E1D9-F220-44B2-874A-FFA5906B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28F0-3DBF-4762-9C4F-70127B04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3C8E-E341-450A-84D6-172C8803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7432-1CEC-4149-A62F-D8C47C52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6D19-4449-4A58-8E25-631F3618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ABDA-466A-4C1E-9C71-C544F489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2327-C0BC-42B6-8736-54DFF0D3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9DE6-7489-469F-AB14-0B14411F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A1555-C350-4DA7-9FE1-76BEC98DAC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