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828697"/>
        <c:axId val="52357098"/>
      </c:barChart>
      <c:catAx>
        <c:axId val="828286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57098"/>
        <c:crosses val="autoZero"/>
        <c:auto val="1"/>
        <c:lblAlgn val="ctr"/>
        <c:lblOffset val="100"/>
        <c:noMultiLvlLbl val="0"/>
      </c:catAx>
      <c:valAx>
        <c:axId val="523570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286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308B-5928-47AA-BA1A-311296E62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FB45-2FEC-4EA8-9735-DA0D32D0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1112-EC44-4D2C-91DD-EE6E19E39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5F1C-43C3-4814-8F21-DB91D3C42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3982-168B-409B-9E85-CBDBAEC9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AA49-B9E2-4E68-83F4-06EE65D7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4D7A-1C16-46A9-A656-0065E521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83CC-BFB3-4494-8D49-805987EA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F01E-E8CB-4DBC-9C8C-A2C34F74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47CE-2947-445E-B9A8-E8A902C1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3699-6557-4384-AD1E-2D64C7D2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0342-5640-4D1F-9DAC-5BB18672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93810-B8E9-4443-9140-37F4436F65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