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583975"/>
        <c:axId val="81025878"/>
      </c:barChart>
      <c:catAx>
        <c:axId val="585839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25878"/>
        <c:crosses val="autoZero"/>
        <c:auto val="1"/>
        <c:lblAlgn val="ctr"/>
        <c:lblOffset val="100"/>
        <c:noMultiLvlLbl val="0"/>
      </c:catAx>
      <c:valAx>
        <c:axId val="810258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839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E7EF-B021-4F23-9B20-D09216BB0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2446-4C80-4710-9886-DA101A1A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F141-811D-4FA6-BA2B-3DA2FBFBE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FFDA-5DCC-40CF-A224-777E3F60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4580-4CC2-4A36-901D-9108C419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70D9-2A6D-4788-99DF-22898E6C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FDA6-A729-4BBE-86A1-41D58448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C8AC-8AE2-4843-900D-32948D81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6FF2-4296-47F0-A321-CF907394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E07D-1B6B-4D9A-8968-138360E7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0CA4-61A2-4FEE-8750-4CE52757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15DE-C765-4303-BDE8-8E07FED3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84E50-CE15-4929-A34F-98D052DC9D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