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24861"/>
        <c:axId val="75519758"/>
      </c:barChart>
      <c:catAx>
        <c:axId val="72824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19758"/>
        <c:crosses val="autoZero"/>
        <c:auto val="1"/>
        <c:lblAlgn val="ctr"/>
        <c:lblOffset val="100"/>
        <c:noMultiLvlLbl val="0"/>
      </c:catAx>
      <c:valAx>
        <c:axId val="75519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24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596-1F79-4095-9E79-2C015857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889-E158-4922-8556-16D54051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729-DCB2-4AB2-B0DF-8802CD26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102-594E-49C8-B49B-E48BAC78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C38-90D0-4067-AFC6-B4A1268F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C9A-7BBA-4814-852E-AA7CE7A3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FF6-E105-476C-9523-BC615B49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791-A932-441F-828C-275E852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499-1801-4980-A0AC-7F78772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3B4-E87A-4E86-9151-A5E69CD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1D1-6F08-4D54-8BF7-9B86298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D03-AB29-4435-B39A-797523E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8F704-9562-4E3F-979B-3F4A33F08D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