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62126"/>
        <c:axId val="60701825"/>
      </c:barChart>
      <c:catAx>
        <c:axId val="21762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01825"/>
        <c:crosses val="autoZero"/>
        <c:auto val="1"/>
        <c:lblAlgn val="ctr"/>
        <c:lblOffset val="100"/>
        <c:noMultiLvlLbl val="0"/>
      </c:catAx>
      <c:valAx>
        <c:axId val="60701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62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EC6-EBA1-410E-9BE3-0283C507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9D8-69C5-4F0A-9834-F85DF411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5D4-9C9C-44E2-8882-A2207637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634-D814-44E4-9ECF-03320AB0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F77-DF2F-4FA4-B6F0-5D0FD00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93B-09F4-4D64-A32F-279A3D0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4C0-8A52-4874-BA4B-8BFBC1F4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E5C-7342-45F9-884D-B5B0A2A8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DBD-4F73-4718-A63D-83BC7A1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6FB-3B35-468F-B493-4CA484ED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3D5-AD81-488D-A0F1-9FE4629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187-A1C6-49D2-B806-C9AFB74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1FF9-27AD-45CD-85BD-AF3B990B1F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