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65118"/>
        <c:axId val="44105971"/>
      </c:barChart>
      <c:catAx>
        <c:axId val="39365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5971"/>
        <c:crosses val="autoZero"/>
        <c:auto val="1"/>
        <c:lblAlgn val="ctr"/>
        <c:lblOffset val="100"/>
        <c:noMultiLvlLbl val="0"/>
      </c:catAx>
      <c:valAx>
        <c:axId val="44105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65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7A5-0B7A-40DD-A93F-6B527E2A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DEB-7501-4426-88EC-89968E2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81E-0225-4425-9FC9-E995813C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61B-EE04-42ED-850E-F9D6BCAF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B49-81E8-4FC9-93D5-51DCE84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2EC-D7D2-4557-9E5E-1434359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B80-7D80-4AC7-A361-308EDFE0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93B-8746-4D78-B376-8D507E8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4CC-0ECB-4BAA-B1A5-26063AB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37D-5E41-49B7-B2D5-4AC5020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B96-6F72-47CF-8AD2-E514D57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72A-5F43-4B6F-97D9-30A2D43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C8D36-8F50-4838-A35F-D0194B5A6D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