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82173"/>
        <c:axId val="61694780"/>
      </c:barChart>
      <c:catAx>
        <c:axId val="29682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94780"/>
        <c:crosses val="autoZero"/>
        <c:auto val="1"/>
        <c:lblAlgn val="ctr"/>
        <c:lblOffset val="100"/>
        <c:noMultiLvlLbl val="0"/>
      </c:catAx>
      <c:valAx>
        <c:axId val="61694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82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E6F-955F-4242-9BDB-CDB83B28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5E5-E3A1-4541-AD1C-78A53BBF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43F-4B7B-4B44-A6DB-0DBF74BA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46C-DD57-4028-A9FA-BC8602E1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5F1-A949-434A-99D3-508A16A4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0C8-8B1D-4BEC-A788-7D9F6651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D14-F916-4649-8C70-2486FB6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C52-EF39-48AA-81A5-AA42BC8A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3D7-91F3-4175-AE17-9E705789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ABB-F537-4AA5-AE80-D21CCC9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5EB-8011-4521-B79C-0A30F118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9D4-5AEB-4209-96D9-EAABB42B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84A29-D333-430F-A0F5-1992E7162D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