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93206"/>
        <c:axId val="56672222"/>
      </c:barChart>
      <c:catAx>
        <c:axId val="52593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72222"/>
        <c:crosses val="autoZero"/>
        <c:auto val="1"/>
        <c:lblAlgn val="ctr"/>
        <c:lblOffset val="100"/>
        <c:noMultiLvlLbl val="0"/>
      </c:catAx>
      <c:valAx>
        <c:axId val="56672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93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8F2-ED81-469F-AA31-91BE5ADF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DC4-8712-47FB-879E-B49A9608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805-7436-4984-8C0E-D8F2AF3C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739-7C15-4EDC-83E3-01B25715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30F-9CCD-4962-A6F0-6CB39A8E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A33-CBD1-4A6F-963C-FCA9CA61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4A1-E9B0-4748-9404-C3EC8355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BD2-F6E9-4349-94CF-AE4AD2BA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8B3-975D-4354-81C0-C14DA32F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8D8-6757-42B8-AD07-395BDFC3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F97-102E-47B0-92C5-E44D412C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131-2BCE-4531-9949-3B1FB58B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616F3-6DBD-43FE-8274-DC8D8FB6D7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